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875-E3CF-4CDF-86CC-5CBD8A4E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371-A6C2-4C0B-8F85-7CC5274F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FBC-E09E-495D-BD82-3447410A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943-B646-442E-8BA4-89E5CFA3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633-ED3B-452E-8169-742420C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F40-E3F5-4B88-973C-796FE465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A7C-9FA1-46D3-918B-0C44CB72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B97-8F9F-4B7F-8F49-9FE7BB7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689-BB9D-460E-BB09-B3EADC69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403-CF69-4729-9AAA-266A1647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ACD-5B7B-4A5A-9E98-0A352BC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DE1-9430-4CB0-BDB1-E4748CD4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8C14-631F-43A8-B72E-5477FD924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0470" t="23960" r="10155" b="15627"/>
          <a:stretch/>
        </p:blipFill>
        <p:spPr>
          <a:xfrm>
            <a:off x="457200" y="423720"/>
            <a:ext cx="80010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7823" t="31077" r="15811" b="24438"/>
          <a:stretch/>
        </p:blipFill>
        <p:spPr>
          <a:xfrm>
            <a:off x="1447920" y="1143000"/>
            <a:ext cx="6248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1:21Z</dcterms:created>
  <dc:creator>Patrick J. Mooney</dc:creator>
  <dc:description/>
  <dc:language>en-US</dc:language>
  <cp:lastModifiedBy>Patrick J. Mooney</cp:lastModifiedBy>
  <dcterms:modified xsi:type="dcterms:W3CDTF">2010-02-22T19:34:56Z</dcterms:modified>
  <cp:revision>1</cp:revision>
  <dc:subject/>
  <dc:title>Slide 1</dc:title>
</cp:coreProperties>
</file>